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48E-AFAF-4413-BE98-590D850F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DD5-39E6-42D4-B53A-DE3D1279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E2AD-29B6-4284-A68C-C6217ACC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003D-492E-4EFD-B232-C2423FFF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961-6148-4198-8F2B-F46F5AE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7EF-B7FB-4B3F-8C0B-D7D65D6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76EA-C730-4ABD-A16C-10A6B8F5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1C7-0BC1-4268-BE7C-67D2776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731-FCF6-413A-83B6-6445FBA5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F638-7B1C-4D9B-B272-90CC809A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6BD-C109-468C-BECD-1E981795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CCE-1F37-4833-B3B8-01FBEE55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3D1-F283-4AA2-8669-320750302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24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linear inequalities in two vari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 a region defined by linear inequa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inequal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inequality uses greater than (&gt;), less than (&lt;), greater than or equal to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≥), and less than or equal to (≤) to compare 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 inequality in two variable looks very similar to an equation in two variables, with the equal sign (=) being replaced by one of the signs ab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graph an ineq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the inequality symbol with an equals symbol to form the equations that is the boundary line of the solution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 the boundary line.   Use a dashed line for &lt; or &gt;, use a solid line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 or ≥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ose any convenient test point that is not on the boundary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the test point is true, shade that half plane; if it is false, shade the other half pl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2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-2y=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2y=4-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= 1/2x 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point (0,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-2(0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76720" y="1219320"/>
          <a:ext cx="286848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219320"/>
                    <a:ext cx="28684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324480" y="3886200"/>
          <a:ext cx="2646360" cy="271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886200"/>
                    <a:ext cx="26463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x+4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≤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 ≥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 ≥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8320" y="1905120"/>
          <a:ext cx="30178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017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4:24:56Z</dcterms:created>
  <dc:creator>nuhs</dc:creator>
  <dc:description/>
  <dc:language>en-US</dc:language>
  <cp:lastModifiedBy>nuhs</cp:lastModifiedBy>
  <dcterms:modified xsi:type="dcterms:W3CDTF">2007-10-24T20:41:08Z</dcterms:modified>
  <cp:revision>8</cp:revision>
  <dc:subject/>
  <dc:title>Algebra 2A</dc:title>
</cp:coreProperties>
</file>